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C6B7-26DC-450C-BBCA-AB99EC54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8FAF-BA91-4A48-98BF-7369814C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4D45-9F77-4784-AA96-1BAF906B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BC5A-F10A-458C-ACAA-5520C678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F62E-2FC4-4ABB-8573-0CD08A69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4702-E384-4B14-B424-92A47789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7A68-373A-43F5-B967-C17F0F15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4F38-E079-451B-9A40-80C8D9CD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48C1-9C83-455E-AE01-E2E8BA20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267D-8047-49F9-8A97-0F49A9CA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7551-94F0-431F-A376-D205509A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C16D-52F9-4F00-AD3B-DAEC46DC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99F6-C795-4537-84A8-D7F3BE57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6B18-4C91-4085-A4A5-E19F6E62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1F33-5E62-4CC3-A2C8-21DB674A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BA42-8D1C-4ACE-AF39-0EA325AF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558B-5555-4CCE-A534-418DC6A9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860-69C4-4737-BC47-BA8B6CC6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0806-B962-4E1B-87C8-0F6C63FE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C716-9247-44ED-B7E6-1A393E15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7725-86D4-4233-909F-86E7207A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90A0-2776-4926-B654-B621BA5E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992B-BC95-43FA-8893-16F8FEB9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0CD-7417-42F3-BD61-4224F012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F071-A1D4-4FB9-9234-098D59677EE3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E097-717E-43BC-A857-FE77876FD643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ffff"/>
                </a:solidFill>
                <a:latin typeface="Times New Roman"/>
              </a:rPr>
              <a:t>Układ  Słoneczn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Opracowała  Wiesława Dropał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94328-6989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3500280" cy="5257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257800" y="457200"/>
            <a:ext cx="358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imes New Roman"/>
              </a:rPr>
              <a:t>Powierzchnia  Mars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05520" y="4724280"/>
            <a:ext cx="3429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jęcie sondy kosmicznej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ali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65487-4912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600200" y="4572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Times New Roman"/>
              </a:rPr>
              <a:t>Jowisz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638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jęcie wykonane z teleskopu Hubble’a  28maja 1991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94455-7010" descr=""/>
          <p:cNvPicPr/>
          <p:nvPr/>
        </p:nvPicPr>
        <p:blipFill>
          <a:blip r:embed="rId1"/>
          <a:stretch/>
        </p:blipFill>
        <p:spPr>
          <a:xfrm>
            <a:off x="3505320" y="137160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28800" y="4572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Times New Roman"/>
              </a:rPr>
              <a:t>Satur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457200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jęcie z kosmiczneg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teleskopu Hubble’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115842-7641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867280" cy="38732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828800" y="3049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Times New Roman"/>
              </a:rPr>
              <a:t>Ur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5181480"/>
            <a:ext cx="7620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jęcie zrobione w podczerwieni przez kosmiczny telesko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Hubble’a. Na zdjęciu widać chmury, pierścienie i jed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 księżyców plane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100454-7296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6019920" cy="4213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752480" y="3049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Times New Roman"/>
              </a:rPr>
              <a:t>Neptu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jęcie zrobione w podczerwieni z Zie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117997-7679" descr=""/>
          <p:cNvPicPr/>
          <p:nvPr/>
        </p:nvPicPr>
        <p:blipFill>
          <a:blip r:embed="rId1"/>
          <a:stretch/>
        </p:blipFill>
        <p:spPr>
          <a:xfrm>
            <a:off x="1828800" y="1452600"/>
            <a:ext cx="6553080" cy="3652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752480" y="38088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Times New Roman"/>
              </a:rPr>
              <a:t>Plut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518148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jęcie z teleskopu Hubble’a z 1994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luton i jego księżyc Cha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304920" y="609480"/>
            <a:ext cx="8838720" cy="6248520"/>
            <a:chOff x="304920" y="609480"/>
            <a:chExt cx="8838720" cy="6248520"/>
          </a:xfrm>
        </p:grpSpPr>
        <p:grpSp>
          <p:nvGrpSpPr>
            <p:cNvPr id="186" name=""/>
            <p:cNvGrpSpPr/>
            <p:nvPr/>
          </p:nvGrpSpPr>
          <p:grpSpPr>
            <a:xfrm>
              <a:off x="310320" y="613080"/>
              <a:ext cx="8826480" cy="6240600"/>
              <a:chOff x="310320" y="613080"/>
              <a:chExt cx="8826480" cy="624060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310320" y="613080"/>
                <a:ext cx="1329120" cy="652680"/>
                <a:chOff x="310320" y="613080"/>
                <a:chExt cx="1329120" cy="6526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10320" y="613080"/>
                  <a:ext cx="1329120" cy="652680"/>
                </a:xfrm>
                <a:prstGeom prst="rect">
                  <a:avLst/>
                </a:prstGeom>
                <a:solidFill>
                  <a:srgbClr val="208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9" name=""/>
                <p:cNvGrpSpPr/>
                <p:nvPr/>
              </p:nvGrpSpPr>
              <p:grpSpPr>
                <a:xfrm>
                  <a:off x="310320" y="613080"/>
                  <a:ext cx="1328760" cy="561600"/>
                  <a:chOff x="310320" y="613080"/>
                  <a:chExt cx="1328760" cy="56160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344880" y="635400"/>
                    <a:ext cx="1259280" cy="516240"/>
                  </a:xfrm>
                  <a:prstGeom prst="rect">
                    <a:avLst/>
                  </a:prstGeom>
                  <a:solidFill>
                    <a:srgbClr val="2080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Nazwa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310320" y="613080"/>
                    <a:ext cx="1328760" cy="561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2" name=""/>
              <p:cNvGrpSpPr/>
              <p:nvPr/>
            </p:nvGrpSpPr>
            <p:grpSpPr>
              <a:xfrm>
                <a:off x="1639800" y="613080"/>
                <a:ext cx="907920" cy="652680"/>
                <a:chOff x="1639800" y="613080"/>
                <a:chExt cx="907920" cy="65268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1639800" y="613080"/>
                  <a:ext cx="907920" cy="652680"/>
                </a:xfrm>
                <a:prstGeom prst="rect">
                  <a:avLst/>
                </a:prstGeom>
                <a:solidFill>
                  <a:srgbClr val="208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4" name=""/>
                <p:cNvGrpSpPr/>
                <p:nvPr/>
              </p:nvGrpSpPr>
              <p:grpSpPr>
                <a:xfrm>
                  <a:off x="1639800" y="613080"/>
                  <a:ext cx="907560" cy="561600"/>
                  <a:chOff x="1639800" y="613080"/>
                  <a:chExt cx="907560" cy="56160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674720" y="635400"/>
                    <a:ext cx="837000" cy="516240"/>
                  </a:xfrm>
                  <a:prstGeom prst="rect">
                    <a:avLst/>
                  </a:prstGeom>
                  <a:solidFill>
                    <a:srgbClr val="2080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erkury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1639800" y="613080"/>
                    <a:ext cx="907560" cy="561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7" name=""/>
              <p:cNvGrpSpPr/>
              <p:nvPr/>
            </p:nvGrpSpPr>
            <p:grpSpPr>
              <a:xfrm>
                <a:off x="2548080" y="613080"/>
                <a:ext cx="819720" cy="652680"/>
                <a:chOff x="2548080" y="613080"/>
                <a:chExt cx="819720" cy="6526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548080" y="613080"/>
                  <a:ext cx="819720" cy="652680"/>
                </a:xfrm>
                <a:prstGeom prst="rect">
                  <a:avLst/>
                </a:prstGeom>
                <a:solidFill>
                  <a:srgbClr val="208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" name=""/>
                <p:cNvGrpSpPr/>
                <p:nvPr/>
              </p:nvGrpSpPr>
              <p:grpSpPr>
                <a:xfrm>
                  <a:off x="2548080" y="613080"/>
                  <a:ext cx="819360" cy="561600"/>
                  <a:chOff x="2548080" y="613080"/>
                  <a:chExt cx="819360" cy="56160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2582640" y="635400"/>
                    <a:ext cx="749880" cy="516240"/>
                  </a:xfrm>
                  <a:prstGeom prst="rect">
                    <a:avLst/>
                  </a:prstGeom>
                  <a:solidFill>
                    <a:srgbClr val="2080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Wenus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2548080" y="613080"/>
                    <a:ext cx="819360" cy="561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2" name=""/>
              <p:cNvGrpSpPr/>
              <p:nvPr/>
            </p:nvGrpSpPr>
            <p:grpSpPr>
              <a:xfrm>
                <a:off x="3368160" y="613080"/>
                <a:ext cx="756000" cy="652680"/>
                <a:chOff x="3368160" y="613080"/>
                <a:chExt cx="756000" cy="6526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3368160" y="613080"/>
                  <a:ext cx="756000" cy="652680"/>
                </a:xfrm>
                <a:prstGeom prst="rect">
                  <a:avLst/>
                </a:prstGeom>
                <a:solidFill>
                  <a:srgbClr val="208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3368160" y="613080"/>
                  <a:ext cx="755640" cy="561600"/>
                  <a:chOff x="3368160" y="613080"/>
                  <a:chExt cx="755640" cy="56160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3403080" y="635400"/>
                    <a:ext cx="685800" cy="516240"/>
                  </a:xfrm>
                  <a:prstGeom prst="rect">
                    <a:avLst/>
                  </a:prstGeom>
                  <a:solidFill>
                    <a:srgbClr val="2080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Ziemia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368160" y="613080"/>
                    <a:ext cx="755640" cy="561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7" name=""/>
              <p:cNvGrpSpPr/>
              <p:nvPr/>
            </p:nvGrpSpPr>
            <p:grpSpPr>
              <a:xfrm>
                <a:off x="4124880" y="613080"/>
                <a:ext cx="798480" cy="652680"/>
                <a:chOff x="4124880" y="613080"/>
                <a:chExt cx="798480" cy="6526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4124880" y="613080"/>
                  <a:ext cx="798480" cy="652680"/>
                </a:xfrm>
                <a:prstGeom prst="rect">
                  <a:avLst/>
                </a:prstGeom>
                <a:solidFill>
                  <a:srgbClr val="208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9" name=""/>
                <p:cNvGrpSpPr/>
                <p:nvPr/>
              </p:nvGrpSpPr>
              <p:grpSpPr>
                <a:xfrm>
                  <a:off x="4124880" y="613080"/>
                  <a:ext cx="798120" cy="561600"/>
                  <a:chOff x="4124880" y="613080"/>
                  <a:chExt cx="798120" cy="5616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4159440" y="635400"/>
                    <a:ext cx="728640" cy="516240"/>
                  </a:xfrm>
                  <a:prstGeom prst="rect">
                    <a:avLst/>
                  </a:prstGeom>
                  <a:solidFill>
                    <a:srgbClr val="2080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ars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4124880" y="613080"/>
                    <a:ext cx="798120" cy="561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2" name=""/>
              <p:cNvGrpSpPr/>
              <p:nvPr/>
            </p:nvGrpSpPr>
            <p:grpSpPr>
              <a:xfrm>
                <a:off x="4923720" y="613080"/>
                <a:ext cx="872640" cy="652680"/>
                <a:chOff x="4923720" y="613080"/>
                <a:chExt cx="872640" cy="6526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4923720" y="613080"/>
                  <a:ext cx="872640" cy="652680"/>
                </a:xfrm>
                <a:prstGeom prst="rect">
                  <a:avLst/>
                </a:prstGeom>
                <a:solidFill>
                  <a:srgbClr val="208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4" name=""/>
                <p:cNvGrpSpPr/>
                <p:nvPr/>
              </p:nvGrpSpPr>
              <p:grpSpPr>
                <a:xfrm>
                  <a:off x="4923720" y="613080"/>
                  <a:ext cx="872280" cy="561600"/>
                  <a:chOff x="4923720" y="613080"/>
                  <a:chExt cx="872280" cy="56160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4958640" y="635400"/>
                    <a:ext cx="802440" cy="516240"/>
                  </a:xfrm>
                  <a:prstGeom prst="rect">
                    <a:avLst/>
                  </a:prstGeom>
                  <a:solidFill>
                    <a:srgbClr val="2080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Jowisz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4923720" y="613080"/>
                    <a:ext cx="872280" cy="561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7" name=""/>
              <p:cNvGrpSpPr/>
              <p:nvPr/>
            </p:nvGrpSpPr>
            <p:grpSpPr>
              <a:xfrm>
                <a:off x="5796720" y="613080"/>
                <a:ext cx="753840" cy="652680"/>
                <a:chOff x="5796720" y="613080"/>
                <a:chExt cx="753840" cy="6526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796720" y="613080"/>
                  <a:ext cx="753840" cy="652680"/>
                </a:xfrm>
                <a:prstGeom prst="rect">
                  <a:avLst/>
                </a:prstGeom>
                <a:solidFill>
                  <a:srgbClr val="208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9" name=""/>
                <p:cNvGrpSpPr/>
                <p:nvPr/>
              </p:nvGrpSpPr>
              <p:grpSpPr>
                <a:xfrm>
                  <a:off x="5796720" y="613080"/>
                  <a:ext cx="753480" cy="561600"/>
                  <a:chOff x="5796720" y="613080"/>
                  <a:chExt cx="753480" cy="5616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5831640" y="635400"/>
                    <a:ext cx="683640" cy="516240"/>
                  </a:xfrm>
                  <a:prstGeom prst="rect">
                    <a:avLst/>
                  </a:prstGeom>
                  <a:solidFill>
                    <a:srgbClr val="2080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Saturn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5796720" y="613080"/>
                    <a:ext cx="753480" cy="561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2" name=""/>
              <p:cNvGrpSpPr/>
              <p:nvPr/>
            </p:nvGrpSpPr>
            <p:grpSpPr>
              <a:xfrm>
                <a:off x="6551280" y="613080"/>
                <a:ext cx="752040" cy="652680"/>
                <a:chOff x="6551280" y="613080"/>
                <a:chExt cx="752040" cy="6526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551280" y="613080"/>
                  <a:ext cx="752040" cy="652680"/>
                </a:xfrm>
                <a:prstGeom prst="rect">
                  <a:avLst/>
                </a:prstGeom>
                <a:solidFill>
                  <a:srgbClr val="208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" name=""/>
                <p:cNvGrpSpPr/>
                <p:nvPr/>
              </p:nvGrpSpPr>
              <p:grpSpPr>
                <a:xfrm>
                  <a:off x="6551280" y="613080"/>
                  <a:ext cx="751680" cy="561600"/>
                  <a:chOff x="6551280" y="613080"/>
                  <a:chExt cx="751680" cy="5616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6586200" y="635400"/>
                    <a:ext cx="681120" cy="516240"/>
                  </a:xfrm>
                  <a:prstGeom prst="rect">
                    <a:avLst/>
                  </a:prstGeom>
                  <a:solidFill>
                    <a:srgbClr val="2080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Uran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6551280" y="613080"/>
                    <a:ext cx="751680" cy="561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7" name=""/>
              <p:cNvGrpSpPr/>
              <p:nvPr/>
            </p:nvGrpSpPr>
            <p:grpSpPr>
              <a:xfrm>
                <a:off x="7304040" y="613080"/>
                <a:ext cx="835560" cy="652680"/>
                <a:chOff x="7304040" y="613080"/>
                <a:chExt cx="835560" cy="65268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7304040" y="613080"/>
                  <a:ext cx="835560" cy="652680"/>
                </a:xfrm>
                <a:prstGeom prst="rect">
                  <a:avLst/>
                </a:prstGeom>
                <a:solidFill>
                  <a:srgbClr val="208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9" name=""/>
                <p:cNvGrpSpPr/>
                <p:nvPr/>
              </p:nvGrpSpPr>
              <p:grpSpPr>
                <a:xfrm>
                  <a:off x="7304040" y="613080"/>
                  <a:ext cx="835200" cy="561600"/>
                  <a:chOff x="7304040" y="613080"/>
                  <a:chExt cx="835200" cy="56160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7338600" y="635400"/>
                    <a:ext cx="765720" cy="516240"/>
                  </a:xfrm>
                  <a:prstGeom prst="rect">
                    <a:avLst/>
                  </a:prstGeom>
                  <a:solidFill>
                    <a:srgbClr val="2080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Neptun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7304040" y="613080"/>
                    <a:ext cx="835200" cy="561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2" name=""/>
              <p:cNvGrpSpPr/>
              <p:nvPr/>
            </p:nvGrpSpPr>
            <p:grpSpPr>
              <a:xfrm>
                <a:off x="8139960" y="613080"/>
                <a:ext cx="996840" cy="652680"/>
                <a:chOff x="8139960" y="613080"/>
                <a:chExt cx="996840" cy="6526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8139960" y="613080"/>
                  <a:ext cx="996840" cy="652680"/>
                </a:xfrm>
                <a:prstGeom prst="rect">
                  <a:avLst/>
                </a:prstGeom>
                <a:solidFill>
                  <a:srgbClr val="208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4" name=""/>
                <p:cNvGrpSpPr/>
                <p:nvPr/>
              </p:nvGrpSpPr>
              <p:grpSpPr>
                <a:xfrm>
                  <a:off x="8139960" y="613080"/>
                  <a:ext cx="996480" cy="561600"/>
                  <a:chOff x="8139960" y="613080"/>
                  <a:chExt cx="996480" cy="56160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8174520" y="635400"/>
                    <a:ext cx="927000" cy="516240"/>
                  </a:xfrm>
                  <a:prstGeom prst="rect">
                    <a:avLst/>
                  </a:prstGeom>
                  <a:solidFill>
                    <a:srgbClr val="2080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Pluton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139960" y="613080"/>
                    <a:ext cx="996480" cy="561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7" name=""/>
              <p:cNvGrpSpPr/>
              <p:nvPr/>
            </p:nvGrpSpPr>
            <p:grpSpPr>
              <a:xfrm>
                <a:off x="310320" y="1220400"/>
                <a:ext cx="1329120" cy="1138320"/>
                <a:chOff x="310320" y="1220400"/>
                <a:chExt cx="1329120" cy="1138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310320" y="1220400"/>
                  <a:ext cx="1329120" cy="113832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" name=""/>
                <p:cNvGrpSpPr/>
                <p:nvPr/>
              </p:nvGrpSpPr>
              <p:grpSpPr>
                <a:xfrm>
                  <a:off x="310320" y="1220400"/>
                  <a:ext cx="1328760" cy="1047240"/>
                  <a:chOff x="310320" y="1220400"/>
                  <a:chExt cx="1328760" cy="104724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344880" y="1242720"/>
                    <a:ext cx="1259280" cy="1001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Średnia odległość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od Słońca (jedn.astr.)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310320" y="1220400"/>
                    <a:ext cx="1328760" cy="1047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" name=""/>
              <p:cNvGrpSpPr/>
              <p:nvPr/>
            </p:nvGrpSpPr>
            <p:grpSpPr>
              <a:xfrm>
                <a:off x="1639800" y="1220400"/>
                <a:ext cx="907920" cy="1138320"/>
                <a:chOff x="1639800" y="1220400"/>
                <a:chExt cx="907920" cy="11383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1639800" y="1220400"/>
                  <a:ext cx="907920" cy="113832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" name=""/>
                <p:cNvGrpSpPr/>
                <p:nvPr/>
              </p:nvGrpSpPr>
              <p:grpSpPr>
                <a:xfrm>
                  <a:off x="1639800" y="1220400"/>
                  <a:ext cx="907560" cy="1047240"/>
                  <a:chOff x="1639800" y="1220400"/>
                  <a:chExt cx="907560" cy="104724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1674720" y="1242720"/>
                    <a:ext cx="837000" cy="1001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0,387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1639800" y="1220400"/>
                    <a:ext cx="907560" cy="1047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7" name=""/>
              <p:cNvGrpSpPr/>
              <p:nvPr/>
            </p:nvGrpSpPr>
            <p:grpSpPr>
              <a:xfrm>
                <a:off x="2548080" y="1220400"/>
                <a:ext cx="819720" cy="1138320"/>
                <a:chOff x="2548080" y="1220400"/>
                <a:chExt cx="819720" cy="11383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2548080" y="1220400"/>
                  <a:ext cx="819720" cy="113832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9" name=""/>
                <p:cNvGrpSpPr/>
                <p:nvPr/>
              </p:nvGrpSpPr>
              <p:grpSpPr>
                <a:xfrm>
                  <a:off x="2548080" y="1220400"/>
                  <a:ext cx="819360" cy="1047240"/>
                  <a:chOff x="2548080" y="1220400"/>
                  <a:chExt cx="819360" cy="104724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>
                    <a:off x="2582640" y="1242720"/>
                    <a:ext cx="749880" cy="1001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0,723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548080" y="1220400"/>
                    <a:ext cx="819360" cy="1047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2" name=""/>
              <p:cNvGrpSpPr/>
              <p:nvPr/>
            </p:nvGrpSpPr>
            <p:grpSpPr>
              <a:xfrm>
                <a:off x="3368160" y="1220400"/>
                <a:ext cx="756000" cy="1138320"/>
                <a:chOff x="3368160" y="1220400"/>
                <a:chExt cx="756000" cy="113832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68160" y="1220400"/>
                  <a:ext cx="756000" cy="113832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4" name=""/>
                <p:cNvGrpSpPr/>
                <p:nvPr/>
              </p:nvGrpSpPr>
              <p:grpSpPr>
                <a:xfrm>
                  <a:off x="3368160" y="1220400"/>
                  <a:ext cx="755640" cy="1047240"/>
                  <a:chOff x="3368160" y="1220400"/>
                  <a:chExt cx="755640" cy="10472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3403080" y="1242720"/>
                    <a:ext cx="685800" cy="1001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3368160" y="1220400"/>
                    <a:ext cx="755640" cy="1047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7" name=""/>
              <p:cNvGrpSpPr/>
              <p:nvPr/>
            </p:nvGrpSpPr>
            <p:grpSpPr>
              <a:xfrm>
                <a:off x="4124880" y="1220400"/>
                <a:ext cx="798480" cy="1138320"/>
                <a:chOff x="4124880" y="1220400"/>
                <a:chExt cx="798480" cy="113832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124880" y="1220400"/>
                  <a:ext cx="798480" cy="113832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" name=""/>
                <p:cNvGrpSpPr/>
                <p:nvPr/>
              </p:nvGrpSpPr>
              <p:grpSpPr>
                <a:xfrm>
                  <a:off x="4124880" y="1220400"/>
                  <a:ext cx="798120" cy="1047240"/>
                  <a:chOff x="4124880" y="1220400"/>
                  <a:chExt cx="798120" cy="104724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4159440" y="1242720"/>
                    <a:ext cx="728640" cy="1001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1,524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4124880" y="1220400"/>
                    <a:ext cx="798120" cy="1047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2" name=""/>
              <p:cNvGrpSpPr/>
              <p:nvPr/>
            </p:nvGrpSpPr>
            <p:grpSpPr>
              <a:xfrm>
                <a:off x="4923720" y="1220400"/>
                <a:ext cx="872640" cy="1138320"/>
                <a:chOff x="4923720" y="1220400"/>
                <a:chExt cx="872640" cy="11383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923720" y="1220400"/>
                  <a:ext cx="872640" cy="113832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4923720" y="1220400"/>
                  <a:ext cx="872280" cy="1047240"/>
                  <a:chOff x="4923720" y="1220400"/>
                  <a:chExt cx="872280" cy="104724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4958640" y="1242720"/>
                    <a:ext cx="802440" cy="1001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5,203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4923720" y="1220400"/>
                    <a:ext cx="872280" cy="1047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5796720" y="1220400"/>
                <a:ext cx="753840" cy="1138320"/>
                <a:chOff x="5796720" y="1220400"/>
                <a:chExt cx="753840" cy="1138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5796720" y="1220400"/>
                  <a:ext cx="753840" cy="113832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5796720" y="1220400"/>
                  <a:ext cx="753480" cy="1047240"/>
                  <a:chOff x="5796720" y="1220400"/>
                  <a:chExt cx="753480" cy="104724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5831640" y="1242720"/>
                    <a:ext cx="683640" cy="1001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9,539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5796720" y="1220400"/>
                    <a:ext cx="753480" cy="1047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6551280" y="1220400"/>
                <a:ext cx="752040" cy="1138320"/>
                <a:chOff x="6551280" y="1220400"/>
                <a:chExt cx="752040" cy="11383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1280" y="1220400"/>
                  <a:ext cx="752040" cy="113832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6551280" y="1220400"/>
                  <a:ext cx="751680" cy="1047240"/>
                  <a:chOff x="6551280" y="1220400"/>
                  <a:chExt cx="751680" cy="104724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6586200" y="1242720"/>
                    <a:ext cx="681120" cy="1001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19,182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6551280" y="1220400"/>
                    <a:ext cx="751680" cy="1047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7304040" y="1220400"/>
                <a:ext cx="837360" cy="1138320"/>
                <a:chOff x="7304040" y="1220400"/>
                <a:chExt cx="837360" cy="11383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7304040" y="1220400"/>
                  <a:ext cx="837360" cy="113832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7304040" y="1220400"/>
                  <a:ext cx="837000" cy="1047240"/>
                  <a:chOff x="7304040" y="1220400"/>
                  <a:chExt cx="837000" cy="104724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7338600" y="1242720"/>
                    <a:ext cx="767520" cy="1001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30,058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304040" y="1220400"/>
                    <a:ext cx="837000" cy="1047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2" name=""/>
              <p:cNvGrpSpPr/>
              <p:nvPr/>
            </p:nvGrpSpPr>
            <p:grpSpPr>
              <a:xfrm>
                <a:off x="8141760" y="1220400"/>
                <a:ext cx="995040" cy="1138320"/>
                <a:chOff x="8141760" y="1220400"/>
                <a:chExt cx="995040" cy="1138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8141760" y="1220400"/>
                  <a:ext cx="995040" cy="113832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8141760" y="1220400"/>
                  <a:ext cx="994680" cy="1047240"/>
                  <a:chOff x="8141760" y="1220400"/>
                  <a:chExt cx="994680" cy="104724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8176680" y="1242720"/>
                    <a:ext cx="924840" cy="1001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39,529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8141760" y="1220400"/>
                    <a:ext cx="994680" cy="1047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7" name=""/>
              <p:cNvGrpSpPr/>
              <p:nvPr/>
            </p:nvGrpSpPr>
            <p:grpSpPr>
              <a:xfrm>
                <a:off x="310320" y="2313720"/>
                <a:ext cx="1329120" cy="895680"/>
                <a:chOff x="310320" y="2313720"/>
                <a:chExt cx="1329120" cy="89568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310320" y="2313720"/>
                  <a:ext cx="1329120" cy="89568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9" name=""/>
                <p:cNvGrpSpPr/>
                <p:nvPr/>
              </p:nvGrpSpPr>
              <p:grpSpPr>
                <a:xfrm>
                  <a:off x="310320" y="2313720"/>
                  <a:ext cx="1328760" cy="804240"/>
                  <a:chOff x="310320" y="2313720"/>
                  <a:chExt cx="1328760" cy="80424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344880" y="2336040"/>
                    <a:ext cx="1259280" cy="758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Średnica na równiku</a:t>
                    </a:r>
                    <a:br>
                      <a:rPr sz="1000"/>
                    </a:br>
                    <a:br>
                      <a:rPr sz="1000"/>
                    </a:b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dla Ziemi=1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310320" y="2313720"/>
                    <a:ext cx="1328760" cy="804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2" name=""/>
              <p:cNvGrpSpPr/>
              <p:nvPr/>
            </p:nvGrpSpPr>
            <p:grpSpPr>
              <a:xfrm>
                <a:off x="1639800" y="2313720"/>
                <a:ext cx="907920" cy="895680"/>
                <a:chOff x="1639800" y="2313720"/>
                <a:chExt cx="907920" cy="8956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1639800" y="2313720"/>
                  <a:ext cx="907920" cy="89568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4" name=""/>
                <p:cNvGrpSpPr/>
                <p:nvPr/>
              </p:nvGrpSpPr>
              <p:grpSpPr>
                <a:xfrm>
                  <a:off x="1639800" y="2313720"/>
                  <a:ext cx="907560" cy="804240"/>
                  <a:chOff x="1639800" y="2313720"/>
                  <a:chExt cx="907560" cy="80424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>
                    <a:off x="1674720" y="2336040"/>
                    <a:ext cx="837000" cy="758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0,38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1639800" y="2313720"/>
                    <a:ext cx="907560" cy="804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7" name=""/>
              <p:cNvGrpSpPr/>
              <p:nvPr/>
            </p:nvGrpSpPr>
            <p:grpSpPr>
              <a:xfrm>
                <a:off x="2548080" y="2313720"/>
                <a:ext cx="819720" cy="895680"/>
                <a:chOff x="2548080" y="2313720"/>
                <a:chExt cx="819720" cy="8956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2548080" y="2313720"/>
                  <a:ext cx="819720" cy="89568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9" name=""/>
                <p:cNvGrpSpPr/>
                <p:nvPr/>
              </p:nvGrpSpPr>
              <p:grpSpPr>
                <a:xfrm>
                  <a:off x="2548080" y="2313720"/>
                  <a:ext cx="819360" cy="804240"/>
                  <a:chOff x="2548080" y="2313720"/>
                  <a:chExt cx="819360" cy="80424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>
                    <a:off x="2582640" y="2336040"/>
                    <a:ext cx="749880" cy="758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0,95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2548080" y="2313720"/>
                    <a:ext cx="819360" cy="804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2" name=""/>
              <p:cNvGrpSpPr/>
              <p:nvPr/>
            </p:nvGrpSpPr>
            <p:grpSpPr>
              <a:xfrm>
                <a:off x="3368160" y="2313720"/>
                <a:ext cx="756000" cy="895680"/>
                <a:chOff x="3368160" y="2313720"/>
                <a:chExt cx="756000" cy="89568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368160" y="2313720"/>
                  <a:ext cx="756000" cy="89568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4" name=""/>
                <p:cNvGrpSpPr/>
                <p:nvPr/>
              </p:nvGrpSpPr>
              <p:grpSpPr>
                <a:xfrm>
                  <a:off x="3368160" y="2313720"/>
                  <a:ext cx="755640" cy="804240"/>
                  <a:chOff x="3368160" y="2313720"/>
                  <a:chExt cx="755640" cy="80424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3403080" y="2336040"/>
                    <a:ext cx="685800" cy="758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368160" y="2313720"/>
                    <a:ext cx="755640" cy="804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7" name=""/>
              <p:cNvGrpSpPr/>
              <p:nvPr/>
            </p:nvGrpSpPr>
            <p:grpSpPr>
              <a:xfrm>
                <a:off x="4124880" y="2313720"/>
                <a:ext cx="798480" cy="895680"/>
                <a:chOff x="4124880" y="2313720"/>
                <a:chExt cx="798480" cy="8956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4124880" y="2313720"/>
                  <a:ext cx="798480" cy="89568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9" name=""/>
                <p:cNvGrpSpPr/>
                <p:nvPr/>
              </p:nvGrpSpPr>
              <p:grpSpPr>
                <a:xfrm>
                  <a:off x="4124880" y="2313720"/>
                  <a:ext cx="798120" cy="804240"/>
                  <a:chOff x="4124880" y="2313720"/>
                  <a:chExt cx="798120" cy="80424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4159440" y="2336040"/>
                    <a:ext cx="728640" cy="758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0,53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4124880" y="2313720"/>
                    <a:ext cx="798120" cy="804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2" name=""/>
              <p:cNvGrpSpPr/>
              <p:nvPr/>
            </p:nvGrpSpPr>
            <p:grpSpPr>
              <a:xfrm>
                <a:off x="4923720" y="2313720"/>
                <a:ext cx="872640" cy="895680"/>
                <a:chOff x="4923720" y="2313720"/>
                <a:chExt cx="872640" cy="8956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923720" y="2313720"/>
                  <a:ext cx="872640" cy="89568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4" name=""/>
                <p:cNvGrpSpPr/>
                <p:nvPr/>
              </p:nvGrpSpPr>
              <p:grpSpPr>
                <a:xfrm>
                  <a:off x="4923720" y="2313720"/>
                  <a:ext cx="872280" cy="804240"/>
                  <a:chOff x="4923720" y="2313720"/>
                  <a:chExt cx="872280" cy="8042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4958640" y="2336040"/>
                    <a:ext cx="802440" cy="758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11,16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4923720" y="2313720"/>
                    <a:ext cx="872280" cy="804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7" name=""/>
              <p:cNvGrpSpPr/>
              <p:nvPr/>
            </p:nvGrpSpPr>
            <p:grpSpPr>
              <a:xfrm>
                <a:off x="5796720" y="2313720"/>
                <a:ext cx="753840" cy="895680"/>
                <a:chOff x="5796720" y="2313720"/>
                <a:chExt cx="753840" cy="8956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796720" y="2313720"/>
                  <a:ext cx="753840" cy="89568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9" name=""/>
                <p:cNvGrpSpPr/>
                <p:nvPr/>
              </p:nvGrpSpPr>
              <p:grpSpPr>
                <a:xfrm>
                  <a:off x="5796720" y="2313720"/>
                  <a:ext cx="753480" cy="804240"/>
                  <a:chOff x="5796720" y="2313720"/>
                  <a:chExt cx="753480" cy="80424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>
                    <a:off x="5831640" y="2336040"/>
                    <a:ext cx="683640" cy="758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9,41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796720" y="2313720"/>
                    <a:ext cx="753480" cy="804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2" name=""/>
              <p:cNvGrpSpPr/>
              <p:nvPr/>
            </p:nvGrpSpPr>
            <p:grpSpPr>
              <a:xfrm>
                <a:off x="6551280" y="2313720"/>
                <a:ext cx="752040" cy="895680"/>
                <a:chOff x="6551280" y="2313720"/>
                <a:chExt cx="752040" cy="89568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551280" y="2313720"/>
                  <a:ext cx="752040" cy="89568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4" name=""/>
                <p:cNvGrpSpPr/>
                <p:nvPr/>
              </p:nvGrpSpPr>
              <p:grpSpPr>
                <a:xfrm>
                  <a:off x="6551280" y="2313720"/>
                  <a:ext cx="751680" cy="804240"/>
                  <a:chOff x="6551280" y="2313720"/>
                  <a:chExt cx="751680" cy="80424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>
                    <a:off x="6586200" y="2336040"/>
                    <a:ext cx="681120" cy="758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4,10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6551280" y="2313720"/>
                    <a:ext cx="751680" cy="804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7" name=""/>
              <p:cNvGrpSpPr/>
              <p:nvPr/>
            </p:nvGrpSpPr>
            <p:grpSpPr>
              <a:xfrm>
                <a:off x="7304040" y="2313720"/>
                <a:ext cx="835560" cy="895680"/>
                <a:chOff x="7304040" y="2313720"/>
                <a:chExt cx="835560" cy="89568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7304040" y="2313720"/>
                  <a:ext cx="835560" cy="89568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9" name=""/>
                <p:cNvGrpSpPr/>
                <p:nvPr/>
              </p:nvGrpSpPr>
              <p:grpSpPr>
                <a:xfrm>
                  <a:off x="7304040" y="2313720"/>
                  <a:ext cx="835200" cy="804240"/>
                  <a:chOff x="7304040" y="2313720"/>
                  <a:chExt cx="835200" cy="80424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7338600" y="2336040"/>
                    <a:ext cx="765720" cy="758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3,81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7304040" y="2313720"/>
                    <a:ext cx="835200" cy="804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2" name=""/>
              <p:cNvGrpSpPr/>
              <p:nvPr/>
            </p:nvGrpSpPr>
            <p:grpSpPr>
              <a:xfrm>
                <a:off x="8139960" y="2313720"/>
                <a:ext cx="996840" cy="895680"/>
                <a:chOff x="8139960" y="2313720"/>
                <a:chExt cx="996840" cy="8956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8139960" y="2313720"/>
                  <a:ext cx="996840" cy="89568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4" name=""/>
                <p:cNvGrpSpPr/>
                <p:nvPr/>
              </p:nvGrpSpPr>
              <p:grpSpPr>
                <a:xfrm>
                  <a:off x="8139960" y="2313720"/>
                  <a:ext cx="996480" cy="804240"/>
                  <a:chOff x="8139960" y="2313720"/>
                  <a:chExt cx="996480" cy="80424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8174520" y="2336040"/>
                    <a:ext cx="927000" cy="758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0,18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8139960" y="2313720"/>
                    <a:ext cx="996480" cy="804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7" name=""/>
              <p:cNvGrpSpPr/>
              <p:nvPr/>
            </p:nvGrpSpPr>
            <p:grpSpPr>
              <a:xfrm>
                <a:off x="310320" y="3164040"/>
                <a:ext cx="1329120" cy="774360"/>
                <a:chOff x="310320" y="3164040"/>
                <a:chExt cx="1329120" cy="77436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310320" y="3164040"/>
                  <a:ext cx="1329120" cy="774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9" name=""/>
                <p:cNvGrpSpPr/>
                <p:nvPr/>
              </p:nvGrpSpPr>
              <p:grpSpPr>
                <a:xfrm>
                  <a:off x="310320" y="3164040"/>
                  <a:ext cx="1328760" cy="682920"/>
                  <a:chOff x="310320" y="3164040"/>
                  <a:chExt cx="1328760" cy="68292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344880" y="3186360"/>
                    <a:ext cx="1259280" cy="63756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asa</a:t>
                    </a:r>
                    <a:br>
                      <a:rPr sz="1000"/>
                    </a:br>
                    <a:br>
                      <a:rPr sz="1000"/>
                    </a:b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dla Ziemi =1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310320" y="3164040"/>
                    <a:ext cx="1328760" cy="682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2" name=""/>
              <p:cNvGrpSpPr/>
              <p:nvPr/>
            </p:nvGrpSpPr>
            <p:grpSpPr>
              <a:xfrm>
                <a:off x="1639800" y="3164040"/>
                <a:ext cx="907920" cy="774360"/>
                <a:chOff x="1639800" y="3164040"/>
                <a:chExt cx="907920" cy="7743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639800" y="3164040"/>
                  <a:ext cx="907920" cy="774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4" name=""/>
                <p:cNvGrpSpPr/>
                <p:nvPr/>
              </p:nvGrpSpPr>
              <p:grpSpPr>
                <a:xfrm>
                  <a:off x="1639800" y="3164040"/>
                  <a:ext cx="907560" cy="682920"/>
                  <a:chOff x="1639800" y="3164040"/>
                  <a:chExt cx="907560" cy="68292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1674720" y="3186360"/>
                    <a:ext cx="837000" cy="63756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0,0553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1639800" y="3164040"/>
                    <a:ext cx="907560" cy="682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7" name=""/>
              <p:cNvGrpSpPr/>
              <p:nvPr/>
            </p:nvGrpSpPr>
            <p:grpSpPr>
              <a:xfrm>
                <a:off x="2548080" y="3164040"/>
                <a:ext cx="819720" cy="774360"/>
                <a:chOff x="2548080" y="3164040"/>
                <a:chExt cx="819720" cy="77436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2548080" y="3164040"/>
                  <a:ext cx="819720" cy="774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9" name=""/>
                <p:cNvGrpSpPr/>
                <p:nvPr/>
              </p:nvGrpSpPr>
              <p:grpSpPr>
                <a:xfrm>
                  <a:off x="2548080" y="3164040"/>
                  <a:ext cx="819360" cy="682920"/>
                  <a:chOff x="2548080" y="3164040"/>
                  <a:chExt cx="819360" cy="6829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2582640" y="3186360"/>
                    <a:ext cx="749880" cy="63756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0,8153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548080" y="3164040"/>
                    <a:ext cx="819360" cy="682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2" name=""/>
              <p:cNvGrpSpPr/>
              <p:nvPr/>
            </p:nvGrpSpPr>
            <p:grpSpPr>
              <a:xfrm>
                <a:off x="3368160" y="3164040"/>
                <a:ext cx="756000" cy="774360"/>
                <a:chOff x="3368160" y="3164040"/>
                <a:chExt cx="756000" cy="77436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3368160" y="3164040"/>
                  <a:ext cx="756000" cy="774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4" name=""/>
                <p:cNvGrpSpPr/>
                <p:nvPr/>
              </p:nvGrpSpPr>
              <p:grpSpPr>
                <a:xfrm>
                  <a:off x="3368160" y="3164040"/>
                  <a:ext cx="755640" cy="682920"/>
                  <a:chOff x="3368160" y="3164040"/>
                  <a:chExt cx="755640" cy="68292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>
                    <a:off x="3403080" y="3186360"/>
                    <a:ext cx="685800" cy="63756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3368160" y="3164040"/>
                    <a:ext cx="755640" cy="682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7" name=""/>
              <p:cNvGrpSpPr/>
              <p:nvPr/>
            </p:nvGrpSpPr>
            <p:grpSpPr>
              <a:xfrm>
                <a:off x="4124880" y="3164040"/>
                <a:ext cx="798480" cy="774360"/>
                <a:chOff x="4124880" y="3164040"/>
                <a:chExt cx="798480" cy="77436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4124880" y="3164040"/>
                  <a:ext cx="798480" cy="774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9" name=""/>
                <p:cNvGrpSpPr/>
                <p:nvPr/>
              </p:nvGrpSpPr>
              <p:grpSpPr>
                <a:xfrm>
                  <a:off x="4124880" y="3164040"/>
                  <a:ext cx="798120" cy="682920"/>
                  <a:chOff x="4124880" y="3164040"/>
                  <a:chExt cx="798120" cy="68292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159440" y="3186360"/>
                    <a:ext cx="728640" cy="63756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0,1047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124880" y="3164040"/>
                    <a:ext cx="798120" cy="682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2" name=""/>
              <p:cNvGrpSpPr/>
              <p:nvPr/>
            </p:nvGrpSpPr>
            <p:grpSpPr>
              <a:xfrm>
                <a:off x="4923720" y="3164040"/>
                <a:ext cx="872640" cy="774360"/>
                <a:chOff x="4923720" y="3164040"/>
                <a:chExt cx="872640" cy="7743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4923720" y="3164040"/>
                  <a:ext cx="872640" cy="774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4" name=""/>
                <p:cNvGrpSpPr/>
                <p:nvPr/>
              </p:nvGrpSpPr>
              <p:grpSpPr>
                <a:xfrm>
                  <a:off x="4923720" y="3164040"/>
                  <a:ext cx="872280" cy="682920"/>
                  <a:chOff x="4923720" y="3164040"/>
                  <a:chExt cx="872280" cy="68292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>
                    <a:off x="4958640" y="3186360"/>
                    <a:ext cx="802440" cy="63756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317,89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4923720" y="3164040"/>
                    <a:ext cx="872280" cy="682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7" name=""/>
              <p:cNvGrpSpPr/>
              <p:nvPr/>
            </p:nvGrpSpPr>
            <p:grpSpPr>
              <a:xfrm>
                <a:off x="5796720" y="3164040"/>
                <a:ext cx="753840" cy="774360"/>
                <a:chOff x="5796720" y="3164040"/>
                <a:chExt cx="753840" cy="77436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5796720" y="3164040"/>
                  <a:ext cx="753840" cy="774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9" name=""/>
                <p:cNvGrpSpPr/>
                <p:nvPr/>
              </p:nvGrpSpPr>
              <p:grpSpPr>
                <a:xfrm>
                  <a:off x="5796720" y="3164040"/>
                  <a:ext cx="753480" cy="682920"/>
                  <a:chOff x="5796720" y="3164040"/>
                  <a:chExt cx="753480" cy="68292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>
                    <a:off x="5831640" y="3186360"/>
                    <a:ext cx="683640" cy="63756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95,17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5796720" y="3164040"/>
                    <a:ext cx="753480" cy="682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2" name=""/>
              <p:cNvGrpSpPr/>
              <p:nvPr/>
            </p:nvGrpSpPr>
            <p:grpSpPr>
              <a:xfrm>
                <a:off x="6551280" y="3164040"/>
                <a:ext cx="752040" cy="774360"/>
                <a:chOff x="6551280" y="3164040"/>
                <a:chExt cx="752040" cy="77436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6551280" y="3164040"/>
                  <a:ext cx="752040" cy="774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4" name=""/>
                <p:cNvGrpSpPr/>
                <p:nvPr/>
              </p:nvGrpSpPr>
              <p:grpSpPr>
                <a:xfrm>
                  <a:off x="6551280" y="3164040"/>
                  <a:ext cx="751680" cy="682920"/>
                  <a:chOff x="6551280" y="3164040"/>
                  <a:chExt cx="751680" cy="6829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586200" y="3186360"/>
                    <a:ext cx="681120" cy="63756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14,54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551280" y="3164040"/>
                    <a:ext cx="751680" cy="682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7" name=""/>
              <p:cNvGrpSpPr/>
              <p:nvPr/>
            </p:nvGrpSpPr>
            <p:grpSpPr>
              <a:xfrm>
                <a:off x="7304040" y="3164040"/>
                <a:ext cx="835560" cy="774360"/>
                <a:chOff x="7304040" y="3164040"/>
                <a:chExt cx="835560" cy="7743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304040" y="3164040"/>
                  <a:ext cx="835560" cy="774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9" name=""/>
                <p:cNvGrpSpPr/>
                <p:nvPr/>
              </p:nvGrpSpPr>
              <p:grpSpPr>
                <a:xfrm>
                  <a:off x="7304040" y="3164040"/>
                  <a:ext cx="835200" cy="682920"/>
                  <a:chOff x="7304040" y="3164040"/>
                  <a:chExt cx="835200" cy="68292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>
                    <a:off x="7338600" y="3186360"/>
                    <a:ext cx="765720" cy="63756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17,24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7304040" y="3164040"/>
                    <a:ext cx="835200" cy="682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2" name=""/>
              <p:cNvGrpSpPr/>
              <p:nvPr/>
            </p:nvGrpSpPr>
            <p:grpSpPr>
              <a:xfrm>
                <a:off x="8139960" y="3164040"/>
                <a:ext cx="996840" cy="774360"/>
                <a:chOff x="8139960" y="3164040"/>
                <a:chExt cx="996840" cy="77436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8139960" y="3164040"/>
                  <a:ext cx="996840" cy="774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4" name=""/>
                <p:cNvGrpSpPr/>
                <p:nvPr/>
              </p:nvGrpSpPr>
              <p:grpSpPr>
                <a:xfrm>
                  <a:off x="8139960" y="3164040"/>
                  <a:ext cx="996480" cy="682920"/>
                  <a:chOff x="8139960" y="3164040"/>
                  <a:chExt cx="996480" cy="68292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8174520" y="3186360"/>
                    <a:ext cx="927000" cy="63756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0,00258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139960" y="3164040"/>
                    <a:ext cx="996480" cy="682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7" name=""/>
              <p:cNvGrpSpPr/>
              <p:nvPr/>
            </p:nvGrpSpPr>
            <p:grpSpPr>
              <a:xfrm>
                <a:off x="310320" y="3892680"/>
                <a:ext cx="1329120" cy="774360"/>
                <a:chOff x="310320" y="3892680"/>
                <a:chExt cx="1329120" cy="77436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310320" y="3892680"/>
                  <a:ext cx="1329120" cy="774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9" name=""/>
                <p:cNvGrpSpPr/>
                <p:nvPr/>
              </p:nvGrpSpPr>
              <p:grpSpPr>
                <a:xfrm>
                  <a:off x="310320" y="3892680"/>
                  <a:ext cx="1328760" cy="682920"/>
                  <a:chOff x="310320" y="3892680"/>
                  <a:chExt cx="1328760" cy="68292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>
                    <a:off x="344880" y="3915000"/>
                    <a:ext cx="1259280" cy="63756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Średnia gęstość (g/cm</a:t>
                    </a:r>
                    <a:r>
                      <a:rPr b="0" lang="en-US" sz="1000" spc="-1" strike="noStrike" baseline="30000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3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)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310320" y="3892680"/>
                    <a:ext cx="1328760" cy="682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2" name=""/>
              <p:cNvGrpSpPr/>
              <p:nvPr/>
            </p:nvGrpSpPr>
            <p:grpSpPr>
              <a:xfrm>
                <a:off x="1639800" y="3892680"/>
                <a:ext cx="907920" cy="774360"/>
                <a:chOff x="1639800" y="3892680"/>
                <a:chExt cx="907920" cy="7743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1639800" y="3892680"/>
                  <a:ext cx="907920" cy="774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4" name=""/>
                <p:cNvGrpSpPr/>
                <p:nvPr/>
              </p:nvGrpSpPr>
              <p:grpSpPr>
                <a:xfrm>
                  <a:off x="1639800" y="3892680"/>
                  <a:ext cx="907560" cy="682920"/>
                  <a:chOff x="1639800" y="3892680"/>
                  <a:chExt cx="907560" cy="68292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1674720" y="3915000"/>
                    <a:ext cx="837000" cy="63756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5,50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1639800" y="3892680"/>
                    <a:ext cx="907560" cy="682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7" name=""/>
              <p:cNvGrpSpPr/>
              <p:nvPr/>
            </p:nvGrpSpPr>
            <p:grpSpPr>
              <a:xfrm>
                <a:off x="2548080" y="3892680"/>
                <a:ext cx="819720" cy="774360"/>
                <a:chOff x="2548080" y="3892680"/>
                <a:chExt cx="819720" cy="77436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2548080" y="3892680"/>
                  <a:ext cx="819720" cy="774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9" name=""/>
                <p:cNvGrpSpPr/>
                <p:nvPr/>
              </p:nvGrpSpPr>
              <p:grpSpPr>
                <a:xfrm>
                  <a:off x="2548080" y="3892680"/>
                  <a:ext cx="819360" cy="682920"/>
                  <a:chOff x="2548080" y="3892680"/>
                  <a:chExt cx="819360" cy="68292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>
                    <a:off x="2582640" y="3915000"/>
                    <a:ext cx="749880" cy="63756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5,11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2548080" y="3892680"/>
                    <a:ext cx="819360" cy="682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2" name=""/>
              <p:cNvGrpSpPr/>
              <p:nvPr/>
            </p:nvGrpSpPr>
            <p:grpSpPr>
              <a:xfrm>
                <a:off x="3368160" y="3892680"/>
                <a:ext cx="756000" cy="774360"/>
                <a:chOff x="3368160" y="3892680"/>
                <a:chExt cx="756000" cy="77436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3368160" y="3892680"/>
                  <a:ext cx="756000" cy="774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4" name=""/>
                <p:cNvGrpSpPr/>
                <p:nvPr/>
              </p:nvGrpSpPr>
              <p:grpSpPr>
                <a:xfrm>
                  <a:off x="3368160" y="3892680"/>
                  <a:ext cx="755640" cy="682920"/>
                  <a:chOff x="3368160" y="3892680"/>
                  <a:chExt cx="755640" cy="68292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>
                    <a:off x="3403080" y="3915000"/>
                    <a:ext cx="685800" cy="63756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5,52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368160" y="3892680"/>
                    <a:ext cx="755640" cy="682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7" name=""/>
              <p:cNvGrpSpPr/>
              <p:nvPr/>
            </p:nvGrpSpPr>
            <p:grpSpPr>
              <a:xfrm>
                <a:off x="4124880" y="3892680"/>
                <a:ext cx="798480" cy="774360"/>
                <a:chOff x="4124880" y="3892680"/>
                <a:chExt cx="798480" cy="77436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4124880" y="3892680"/>
                  <a:ext cx="798480" cy="774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4124880" y="3892680"/>
                  <a:ext cx="798120" cy="682920"/>
                  <a:chOff x="4124880" y="3892680"/>
                  <a:chExt cx="798120" cy="68292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4159440" y="3915000"/>
                    <a:ext cx="728640" cy="63756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3,94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124880" y="3892680"/>
                    <a:ext cx="798120" cy="682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2" name=""/>
              <p:cNvGrpSpPr/>
              <p:nvPr/>
            </p:nvGrpSpPr>
            <p:grpSpPr>
              <a:xfrm>
                <a:off x="4923720" y="3892680"/>
                <a:ext cx="872640" cy="774360"/>
                <a:chOff x="4923720" y="3892680"/>
                <a:chExt cx="872640" cy="7743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923720" y="3892680"/>
                  <a:ext cx="872640" cy="774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4" name=""/>
                <p:cNvGrpSpPr/>
                <p:nvPr/>
              </p:nvGrpSpPr>
              <p:grpSpPr>
                <a:xfrm>
                  <a:off x="4923720" y="3892680"/>
                  <a:ext cx="872280" cy="682920"/>
                  <a:chOff x="4923720" y="3892680"/>
                  <a:chExt cx="872280" cy="68292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>
                    <a:off x="4958640" y="3915000"/>
                    <a:ext cx="802440" cy="63756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1,33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4923720" y="3892680"/>
                    <a:ext cx="872280" cy="682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7" name=""/>
              <p:cNvGrpSpPr/>
              <p:nvPr/>
            </p:nvGrpSpPr>
            <p:grpSpPr>
              <a:xfrm>
                <a:off x="5796720" y="3892680"/>
                <a:ext cx="753840" cy="774360"/>
                <a:chOff x="5796720" y="3892680"/>
                <a:chExt cx="753840" cy="77436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796720" y="3892680"/>
                  <a:ext cx="753840" cy="774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9" name=""/>
                <p:cNvGrpSpPr/>
                <p:nvPr/>
              </p:nvGrpSpPr>
              <p:grpSpPr>
                <a:xfrm>
                  <a:off x="5796720" y="3892680"/>
                  <a:ext cx="753480" cy="682920"/>
                  <a:chOff x="5796720" y="3892680"/>
                  <a:chExt cx="753480" cy="68292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>
                    <a:off x="5831640" y="3915000"/>
                    <a:ext cx="683640" cy="63756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0,687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5796720" y="3892680"/>
                    <a:ext cx="753480" cy="682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2" name=""/>
              <p:cNvGrpSpPr/>
              <p:nvPr/>
            </p:nvGrpSpPr>
            <p:grpSpPr>
              <a:xfrm>
                <a:off x="6551280" y="3892680"/>
                <a:ext cx="752040" cy="774360"/>
                <a:chOff x="6551280" y="3892680"/>
                <a:chExt cx="752040" cy="77436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6551280" y="3892680"/>
                  <a:ext cx="752040" cy="774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4" name=""/>
                <p:cNvGrpSpPr/>
                <p:nvPr/>
              </p:nvGrpSpPr>
              <p:grpSpPr>
                <a:xfrm>
                  <a:off x="6551280" y="3892680"/>
                  <a:ext cx="751680" cy="682920"/>
                  <a:chOff x="6551280" y="3892680"/>
                  <a:chExt cx="751680" cy="68292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>
                    <a:off x="6586200" y="3915000"/>
                    <a:ext cx="681120" cy="63756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1,16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6551280" y="3892680"/>
                    <a:ext cx="751680" cy="682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7" name=""/>
              <p:cNvGrpSpPr/>
              <p:nvPr/>
            </p:nvGrpSpPr>
            <p:grpSpPr>
              <a:xfrm>
                <a:off x="7304040" y="3892680"/>
                <a:ext cx="835560" cy="774360"/>
                <a:chOff x="7304040" y="3892680"/>
                <a:chExt cx="835560" cy="7743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304040" y="3892680"/>
                  <a:ext cx="835560" cy="774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7304040" y="3892680"/>
                  <a:ext cx="835200" cy="682920"/>
                  <a:chOff x="7304040" y="3892680"/>
                  <a:chExt cx="835200" cy="68292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7338600" y="3915000"/>
                    <a:ext cx="765720" cy="63756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1,77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7304040" y="3892680"/>
                    <a:ext cx="835200" cy="682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2" name=""/>
              <p:cNvGrpSpPr/>
              <p:nvPr/>
            </p:nvGrpSpPr>
            <p:grpSpPr>
              <a:xfrm>
                <a:off x="8139960" y="3892680"/>
                <a:ext cx="996840" cy="774360"/>
                <a:chOff x="8139960" y="3892680"/>
                <a:chExt cx="996840" cy="77436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8139960" y="3892680"/>
                  <a:ext cx="996840" cy="774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4" name=""/>
                <p:cNvGrpSpPr/>
                <p:nvPr/>
              </p:nvGrpSpPr>
              <p:grpSpPr>
                <a:xfrm>
                  <a:off x="8139960" y="3892680"/>
                  <a:ext cx="996480" cy="682920"/>
                  <a:chOff x="8139960" y="3892680"/>
                  <a:chExt cx="996480" cy="68292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>
                    <a:off x="8174520" y="3915000"/>
                    <a:ext cx="927000" cy="63756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1,97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8139960" y="3892680"/>
                    <a:ext cx="996480" cy="682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7" name=""/>
              <p:cNvGrpSpPr/>
              <p:nvPr/>
            </p:nvGrpSpPr>
            <p:grpSpPr>
              <a:xfrm>
                <a:off x="310320" y="4621680"/>
                <a:ext cx="1329120" cy="895680"/>
                <a:chOff x="310320" y="4621680"/>
                <a:chExt cx="1329120" cy="89568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310320" y="4621680"/>
                  <a:ext cx="1329120" cy="89568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9" name=""/>
                <p:cNvGrpSpPr/>
                <p:nvPr/>
              </p:nvGrpSpPr>
              <p:grpSpPr>
                <a:xfrm>
                  <a:off x="310320" y="4621680"/>
                  <a:ext cx="1328760" cy="804600"/>
                  <a:chOff x="310320" y="4621680"/>
                  <a:chExt cx="1328760" cy="80460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344880" y="4644000"/>
                    <a:ext cx="1259280" cy="758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Przyspieszenie grawitacyjne dla Ziemi =1 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310320" y="4621680"/>
                    <a:ext cx="1328760" cy="804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2" name=""/>
              <p:cNvGrpSpPr/>
              <p:nvPr/>
            </p:nvGrpSpPr>
            <p:grpSpPr>
              <a:xfrm>
                <a:off x="1639800" y="4621680"/>
                <a:ext cx="907920" cy="895680"/>
                <a:chOff x="1639800" y="4621680"/>
                <a:chExt cx="907920" cy="89568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1639800" y="4621680"/>
                  <a:ext cx="907920" cy="89568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4" name=""/>
                <p:cNvGrpSpPr/>
                <p:nvPr/>
              </p:nvGrpSpPr>
              <p:grpSpPr>
                <a:xfrm>
                  <a:off x="1639800" y="4621680"/>
                  <a:ext cx="907560" cy="804600"/>
                  <a:chOff x="1639800" y="4621680"/>
                  <a:chExt cx="907560" cy="80460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>
                    <a:off x="1674720" y="4644000"/>
                    <a:ext cx="837000" cy="758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0,378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1639800" y="4621680"/>
                    <a:ext cx="907560" cy="804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7" name=""/>
              <p:cNvGrpSpPr/>
              <p:nvPr/>
            </p:nvGrpSpPr>
            <p:grpSpPr>
              <a:xfrm>
                <a:off x="2548080" y="4621680"/>
                <a:ext cx="819720" cy="895680"/>
                <a:chOff x="2548080" y="4621680"/>
                <a:chExt cx="819720" cy="8956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2548080" y="4621680"/>
                  <a:ext cx="819720" cy="89568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9" name=""/>
                <p:cNvGrpSpPr/>
                <p:nvPr/>
              </p:nvGrpSpPr>
              <p:grpSpPr>
                <a:xfrm>
                  <a:off x="2548080" y="4621680"/>
                  <a:ext cx="819360" cy="804600"/>
                  <a:chOff x="2548080" y="4621680"/>
                  <a:chExt cx="819360" cy="80460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>
                    <a:off x="2582640" y="4644000"/>
                    <a:ext cx="749880" cy="758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0,905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2548080" y="4621680"/>
                    <a:ext cx="819360" cy="804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2" name=""/>
              <p:cNvGrpSpPr/>
              <p:nvPr/>
            </p:nvGrpSpPr>
            <p:grpSpPr>
              <a:xfrm>
                <a:off x="3368160" y="4621680"/>
                <a:ext cx="756000" cy="895680"/>
                <a:chOff x="3368160" y="4621680"/>
                <a:chExt cx="756000" cy="89568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3368160" y="4621680"/>
                  <a:ext cx="756000" cy="89568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3368160" y="4621680"/>
                  <a:ext cx="755640" cy="804600"/>
                  <a:chOff x="3368160" y="4621680"/>
                  <a:chExt cx="755640" cy="80460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>
                    <a:off x="3403080" y="4644000"/>
                    <a:ext cx="685800" cy="758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3368160" y="4621680"/>
                    <a:ext cx="755640" cy="804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7" name=""/>
              <p:cNvGrpSpPr/>
              <p:nvPr/>
            </p:nvGrpSpPr>
            <p:grpSpPr>
              <a:xfrm>
                <a:off x="4124880" y="4621680"/>
                <a:ext cx="798480" cy="895680"/>
                <a:chOff x="4124880" y="4621680"/>
                <a:chExt cx="798480" cy="89568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124880" y="4621680"/>
                  <a:ext cx="798480" cy="89568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9" name=""/>
                <p:cNvGrpSpPr/>
                <p:nvPr/>
              </p:nvGrpSpPr>
              <p:grpSpPr>
                <a:xfrm>
                  <a:off x="4124880" y="4621680"/>
                  <a:ext cx="798120" cy="804600"/>
                  <a:chOff x="4124880" y="4621680"/>
                  <a:chExt cx="798120" cy="80460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4159440" y="4644000"/>
                    <a:ext cx="728640" cy="758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0,369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4124880" y="4621680"/>
                    <a:ext cx="798120" cy="804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2" name=""/>
              <p:cNvGrpSpPr/>
              <p:nvPr/>
            </p:nvGrpSpPr>
            <p:grpSpPr>
              <a:xfrm>
                <a:off x="4923720" y="4621680"/>
                <a:ext cx="872640" cy="895680"/>
                <a:chOff x="4923720" y="4621680"/>
                <a:chExt cx="872640" cy="89568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4923720" y="4621680"/>
                  <a:ext cx="872640" cy="89568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4" name=""/>
                <p:cNvGrpSpPr/>
                <p:nvPr/>
              </p:nvGrpSpPr>
              <p:grpSpPr>
                <a:xfrm>
                  <a:off x="4923720" y="4621680"/>
                  <a:ext cx="872280" cy="804600"/>
                  <a:chOff x="4923720" y="4621680"/>
                  <a:chExt cx="872280" cy="80460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4958640" y="4644000"/>
                    <a:ext cx="802440" cy="758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2,555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4923720" y="4621680"/>
                    <a:ext cx="872280" cy="804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7" name=""/>
              <p:cNvGrpSpPr/>
              <p:nvPr/>
            </p:nvGrpSpPr>
            <p:grpSpPr>
              <a:xfrm>
                <a:off x="5796720" y="4621680"/>
                <a:ext cx="753840" cy="895680"/>
                <a:chOff x="5796720" y="4621680"/>
                <a:chExt cx="753840" cy="89568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796720" y="4621680"/>
                  <a:ext cx="753840" cy="89568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9" name=""/>
                <p:cNvGrpSpPr/>
                <p:nvPr/>
              </p:nvGrpSpPr>
              <p:grpSpPr>
                <a:xfrm>
                  <a:off x="5796720" y="4621680"/>
                  <a:ext cx="753480" cy="804600"/>
                  <a:chOff x="5796720" y="4621680"/>
                  <a:chExt cx="753480" cy="80460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>
                    <a:off x="5831640" y="4644000"/>
                    <a:ext cx="683640" cy="758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1,075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5796720" y="4621680"/>
                    <a:ext cx="753480" cy="804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2" name=""/>
              <p:cNvGrpSpPr/>
              <p:nvPr/>
            </p:nvGrpSpPr>
            <p:grpSpPr>
              <a:xfrm>
                <a:off x="6551280" y="4621680"/>
                <a:ext cx="752040" cy="895680"/>
                <a:chOff x="6551280" y="4621680"/>
                <a:chExt cx="752040" cy="89568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6551280" y="4621680"/>
                  <a:ext cx="752040" cy="89568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4" name=""/>
                <p:cNvGrpSpPr/>
                <p:nvPr/>
              </p:nvGrpSpPr>
              <p:grpSpPr>
                <a:xfrm>
                  <a:off x="6551280" y="4621680"/>
                  <a:ext cx="751680" cy="804600"/>
                  <a:chOff x="6551280" y="4621680"/>
                  <a:chExt cx="751680" cy="80460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>
                    <a:off x="6586200" y="4644000"/>
                    <a:ext cx="681120" cy="758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0,865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551280" y="4621680"/>
                    <a:ext cx="751680" cy="804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7" name=""/>
              <p:cNvGrpSpPr/>
              <p:nvPr/>
            </p:nvGrpSpPr>
            <p:grpSpPr>
              <a:xfrm>
                <a:off x="7304040" y="4621680"/>
                <a:ext cx="835560" cy="895680"/>
                <a:chOff x="7304040" y="4621680"/>
                <a:chExt cx="835560" cy="8956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7304040" y="4621680"/>
                  <a:ext cx="835560" cy="89568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9" name=""/>
                <p:cNvGrpSpPr/>
                <p:nvPr/>
              </p:nvGrpSpPr>
              <p:grpSpPr>
                <a:xfrm>
                  <a:off x="7304040" y="4621680"/>
                  <a:ext cx="835200" cy="804600"/>
                  <a:chOff x="7304040" y="4621680"/>
                  <a:chExt cx="835200" cy="80460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>
                    <a:off x="7338600" y="4644000"/>
                    <a:ext cx="765720" cy="758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1,188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7304040" y="4621680"/>
                    <a:ext cx="835200" cy="804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2" name=""/>
              <p:cNvGrpSpPr/>
              <p:nvPr/>
            </p:nvGrpSpPr>
            <p:grpSpPr>
              <a:xfrm>
                <a:off x="8139960" y="4621680"/>
                <a:ext cx="996840" cy="895680"/>
                <a:chOff x="8139960" y="4621680"/>
                <a:chExt cx="996840" cy="89568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8139960" y="4621680"/>
                  <a:ext cx="996840" cy="89568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4" name=""/>
                <p:cNvGrpSpPr/>
                <p:nvPr/>
              </p:nvGrpSpPr>
              <p:grpSpPr>
                <a:xfrm>
                  <a:off x="8139960" y="4621680"/>
                  <a:ext cx="996480" cy="804600"/>
                  <a:chOff x="8139960" y="4621680"/>
                  <a:chExt cx="996480" cy="80460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>
                    <a:off x="8174520" y="4644000"/>
                    <a:ext cx="927000" cy="758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0,066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8139960" y="4621680"/>
                    <a:ext cx="996480" cy="804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7" name=""/>
              <p:cNvGrpSpPr/>
              <p:nvPr/>
            </p:nvGrpSpPr>
            <p:grpSpPr>
              <a:xfrm>
                <a:off x="310320" y="5472000"/>
                <a:ext cx="1329120" cy="774360"/>
                <a:chOff x="310320" y="5472000"/>
                <a:chExt cx="1329120" cy="77436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310320" y="5472000"/>
                  <a:ext cx="1329120" cy="774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9" name=""/>
                <p:cNvGrpSpPr/>
                <p:nvPr/>
              </p:nvGrpSpPr>
              <p:grpSpPr>
                <a:xfrm>
                  <a:off x="310320" y="5472000"/>
                  <a:ext cx="1328760" cy="683280"/>
                  <a:chOff x="310320" y="5472000"/>
                  <a:chExt cx="1328760" cy="68328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>
                    <a:off x="344880" y="5494680"/>
                    <a:ext cx="1259280" cy="63720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Okres obrotu wokół osi (dni)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310320" y="5472000"/>
                    <a:ext cx="1328760" cy="683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2" name=""/>
              <p:cNvGrpSpPr/>
              <p:nvPr/>
            </p:nvGrpSpPr>
            <p:grpSpPr>
              <a:xfrm>
                <a:off x="1639800" y="5472000"/>
                <a:ext cx="907920" cy="774360"/>
                <a:chOff x="1639800" y="5472000"/>
                <a:chExt cx="907920" cy="77436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1639800" y="5472000"/>
                  <a:ext cx="907920" cy="774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4" name=""/>
                <p:cNvGrpSpPr/>
                <p:nvPr/>
              </p:nvGrpSpPr>
              <p:grpSpPr>
                <a:xfrm>
                  <a:off x="1639800" y="5472000"/>
                  <a:ext cx="907560" cy="683280"/>
                  <a:chOff x="1639800" y="5472000"/>
                  <a:chExt cx="907560" cy="68328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>
                    <a:off x="1674720" y="5494680"/>
                    <a:ext cx="837000" cy="63720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58,65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1639800" y="5472000"/>
                    <a:ext cx="907560" cy="683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7" name=""/>
              <p:cNvGrpSpPr/>
              <p:nvPr/>
            </p:nvGrpSpPr>
            <p:grpSpPr>
              <a:xfrm>
                <a:off x="2548080" y="5472000"/>
                <a:ext cx="819720" cy="774360"/>
                <a:chOff x="2548080" y="5472000"/>
                <a:chExt cx="819720" cy="7743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2548080" y="5472000"/>
                  <a:ext cx="819720" cy="774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9" name=""/>
                <p:cNvGrpSpPr/>
                <p:nvPr/>
              </p:nvGrpSpPr>
              <p:grpSpPr>
                <a:xfrm>
                  <a:off x="2548080" y="5472000"/>
                  <a:ext cx="819360" cy="683280"/>
                  <a:chOff x="2548080" y="5472000"/>
                  <a:chExt cx="819360" cy="68328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>
                    <a:off x="2582640" y="5494680"/>
                    <a:ext cx="749880" cy="63720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243,16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2548080" y="5472000"/>
                    <a:ext cx="819360" cy="683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2" name=""/>
              <p:cNvGrpSpPr/>
              <p:nvPr/>
            </p:nvGrpSpPr>
            <p:grpSpPr>
              <a:xfrm>
                <a:off x="3368160" y="5472000"/>
                <a:ext cx="756000" cy="774360"/>
                <a:chOff x="3368160" y="5472000"/>
                <a:chExt cx="756000" cy="77436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3368160" y="5472000"/>
                  <a:ext cx="756000" cy="774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4" name=""/>
                <p:cNvGrpSpPr/>
                <p:nvPr/>
              </p:nvGrpSpPr>
              <p:grpSpPr>
                <a:xfrm>
                  <a:off x="3368160" y="5472000"/>
                  <a:ext cx="755640" cy="683280"/>
                  <a:chOff x="3368160" y="5472000"/>
                  <a:chExt cx="755640" cy="683280"/>
                </a:xfrm>
              </p:grpSpPr>
              <p:sp>
                <p:nvSpPr>
                  <p:cNvPr id="505" name=""/>
                  <p:cNvSpPr/>
                  <p:nvPr/>
                </p:nvSpPr>
                <p:spPr>
                  <a:xfrm>
                    <a:off x="3403080" y="5494680"/>
                    <a:ext cx="685800" cy="63720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3368160" y="5472000"/>
                    <a:ext cx="755640" cy="683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7" name=""/>
              <p:cNvGrpSpPr/>
              <p:nvPr/>
            </p:nvGrpSpPr>
            <p:grpSpPr>
              <a:xfrm>
                <a:off x="4124880" y="5472000"/>
                <a:ext cx="798480" cy="774360"/>
                <a:chOff x="4124880" y="5472000"/>
                <a:chExt cx="798480" cy="77436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4124880" y="5472000"/>
                  <a:ext cx="798480" cy="774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9" name=""/>
                <p:cNvGrpSpPr/>
                <p:nvPr/>
              </p:nvGrpSpPr>
              <p:grpSpPr>
                <a:xfrm>
                  <a:off x="4124880" y="5472000"/>
                  <a:ext cx="798120" cy="683280"/>
                  <a:chOff x="4124880" y="5472000"/>
                  <a:chExt cx="798120" cy="68328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>
                    <a:off x="4159440" y="5494680"/>
                    <a:ext cx="728640" cy="63720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1,029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4124880" y="5472000"/>
                    <a:ext cx="798120" cy="683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2" name=""/>
              <p:cNvGrpSpPr/>
              <p:nvPr/>
            </p:nvGrpSpPr>
            <p:grpSpPr>
              <a:xfrm>
                <a:off x="4923720" y="5472000"/>
                <a:ext cx="872640" cy="774360"/>
                <a:chOff x="4923720" y="5472000"/>
                <a:chExt cx="872640" cy="7743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4923720" y="5472000"/>
                  <a:ext cx="872640" cy="774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4" name=""/>
                <p:cNvGrpSpPr/>
                <p:nvPr/>
              </p:nvGrpSpPr>
              <p:grpSpPr>
                <a:xfrm>
                  <a:off x="4923720" y="5472000"/>
                  <a:ext cx="872280" cy="683280"/>
                  <a:chOff x="4923720" y="5472000"/>
                  <a:chExt cx="872280" cy="68328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>
                    <a:off x="4958640" y="5494680"/>
                    <a:ext cx="802440" cy="63720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0,410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4923720" y="5472000"/>
                    <a:ext cx="872280" cy="683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7" name=""/>
              <p:cNvGrpSpPr/>
              <p:nvPr/>
            </p:nvGrpSpPr>
            <p:grpSpPr>
              <a:xfrm>
                <a:off x="5796720" y="5472000"/>
                <a:ext cx="753840" cy="774360"/>
                <a:chOff x="5796720" y="5472000"/>
                <a:chExt cx="753840" cy="77436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5796720" y="5472000"/>
                  <a:ext cx="753840" cy="774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9" name=""/>
                <p:cNvGrpSpPr/>
                <p:nvPr/>
              </p:nvGrpSpPr>
              <p:grpSpPr>
                <a:xfrm>
                  <a:off x="5796720" y="5472000"/>
                  <a:ext cx="753480" cy="683280"/>
                  <a:chOff x="5796720" y="5472000"/>
                  <a:chExt cx="753480" cy="683280"/>
                </a:xfrm>
              </p:grpSpPr>
              <p:sp>
                <p:nvSpPr>
                  <p:cNvPr id="520" name=""/>
                  <p:cNvSpPr/>
                  <p:nvPr/>
                </p:nvSpPr>
                <p:spPr>
                  <a:xfrm>
                    <a:off x="5831640" y="5494680"/>
                    <a:ext cx="683640" cy="63720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0,426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5796720" y="5472000"/>
                    <a:ext cx="753480" cy="683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2" name=""/>
              <p:cNvGrpSpPr/>
              <p:nvPr/>
            </p:nvGrpSpPr>
            <p:grpSpPr>
              <a:xfrm>
                <a:off x="6551280" y="5472000"/>
                <a:ext cx="752040" cy="774360"/>
                <a:chOff x="6551280" y="5472000"/>
                <a:chExt cx="752040" cy="77436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6551280" y="5472000"/>
                  <a:ext cx="752040" cy="774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4" name=""/>
                <p:cNvGrpSpPr/>
                <p:nvPr/>
              </p:nvGrpSpPr>
              <p:grpSpPr>
                <a:xfrm>
                  <a:off x="6551280" y="5472000"/>
                  <a:ext cx="751680" cy="683280"/>
                  <a:chOff x="6551280" y="5472000"/>
                  <a:chExt cx="751680" cy="68328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>
                    <a:off x="6586200" y="5494680"/>
                    <a:ext cx="681120" cy="63720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0,960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6551280" y="5472000"/>
                    <a:ext cx="751680" cy="683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7" name=""/>
              <p:cNvGrpSpPr/>
              <p:nvPr/>
            </p:nvGrpSpPr>
            <p:grpSpPr>
              <a:xfrm>
                <a:off x="7304040" y="5472000"/>
                <a:ext cx="835560" cy="774360"/>
                <a:chOff x="7304040" y="5472000"/>
                <a:chExt cx="835560" cy="7743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304040" y="5472000"/>
                  <a:ext cx="835560" cy="774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9" name=""/>
                <p:cNvGrpSpPr/>
                <p:nvPr/>
              </p:nvGrpSpPr>
              <p:grpSpPr>
                <a:xfrm>
                  <a:off x="7304040" y="5472000"/>
                  <a:ext cx="835200" cy="683280"/>
                  <a:chOff x="7304040" y="5472000"/>
                  <a:chExt cx="835200" cy="683280"/>
                </a:xfrm>
              </p:grpSpPr>
              <p:sp>
                <p:nvSpPr>
                  <p:cNvPr id="530" name=""/>
                  <p:cNvSpPr/>
                  <p:nvPr/>
                </p:nvSpPr>
                <p:spPr>
                  <a:xfrm>
                    <a:off x="7338600" y="5494680"/>
                    <a:ext cx="765720" cy="63720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0,743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7304040" y="5472000"/>
                    <a:ext cx="835200" cy="683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2" name=""/>
              <p:cNvGrpSpPr/>
              <p:nvPr/>
            </p:nvGrpSpPr>
            <p:grpSpPr>
              <a:xfrm>
                <a:off x="8139960" y="5472000"/>
                <a:ext cx="996840" cy="774360"/>
                <a:chOff x="8139960" y="5472000"/>
                <a:chExt cx="996840" cy="77436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8139960" y="5472000"/>
                  <a:ext cx="996840" cy="774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4" name=""/>
                <p:cNvGrpSpPr/>
                <p:nvPr/>
              </p:nvGrpSpPr>
              <p:grpSpPr>
                <a:xfrm>
                  <a:off x="8139960" y="5472000"/>
                  <a:ext cx="996480" cy="683280"/>
                  <a:chOff x="8139960" y="5472000"/>
                  <a:chExt cx="996480" cy="68328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>
                    <a:off x="8174520" y="5494680"/>
                    <a:ext cx="927000" cy="63720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6,387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8139960" y="5472000"/>
                    <a:ext cx="996480" cy="683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7" name=""/>
              <p:cNvGrpSpPr/>
              <p:nvPr/>
            </p:nvGrpSpPr>
            <p:grpSpPr>
              <a:xfrm>
                <a:off x="310320" y="6200640"/>
                <a:ext cx="1329120" cy="653040"/>
                <a:chOff x="310320" y="6200640"/>
                <a:chExt cx="1329120" cy="65304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310320" y="6200640"/>
                  <a:ext cx="1329120" cy="65304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9" name=""/>
                <p:cNvGrpSpPr/>
                <p:nvPr/>
              </p:nvGrpSpPr>
              <p:grpSpPr>
                <a:xfrm>
                  <a:off x="310320" y="6200640"/>
                  <a:ext cx="1328760" cy="561600"/>
                  <a:chOff x="310320" y="6200640"/>
                  <a:chExt cx="1328760" cy="56160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>
                    <a:off x="344880" y="6223320"/>
                    <a:ext cx="1259280" cy="515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Okres obiegu (lata)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310320" y="6200640"/>
                    <a:ext cx="1328760" cy="561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2" name=""/>
              <p:cNvGrpSpPr/>
              <p:nvPr/>
            </p:nvGrpSpPr>
            <p:grpSpPr>
              <a:xfrm>
                <a:off x="1639800" y="6200640"/>
                <a:ext cx="907920" cy="653040"/>
                <a:chOff x="1639800" y="6200640"/>
                <a:chExt cx="907920" cy="65304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1639800" y="6200640"/>
                  <a:ext cx="907920" cy="65304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4" name=""/>
                <p:cNvGrpSpPr/>
                <p:nvPr/>
              </p:nvGrpSpPr>
              <p:grpSpPr>
                <a:xfrm>
                  <a:off x="1639800" y="6200640"/>
                  <a:ext cx="907560" cy="561600"/>
                  <a:chOff x="1639800" y="6200640"/>
                  <a:chExt cx="907560" cy="56160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>
                    <a:off x="1674720" y="6223320"/>
                    <a:ext cx="837000" cy="515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0,2408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1639800" y="6200640"/>
                    <a:ext cx="907560" cy="561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7" name=""/>
              <p:cNvGrpSpPr/>
              <p:nvPr/>
            </p:nvGrpSpPr>
            <p:grpSpPr>
              <a:xfrm>
                <a:off x="2548080" y="6200640"/>
                <a:ext cx="819720" cy="653040"/>
                <a:chOff x="2548080" y="6200640"/>
                <a:chExt cx="819720" cy="65304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2548080" y="6200640"/>
                  <a:ext cx="819720" cy="65304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9" name=""/>
                <p:cNvGrpSpPr/>
                <p:nvPr/>
              </p:nvGrpSpPr>
              <p:grpSpPr>
                <a:xfrm>
                  <a:off x="2548080" y="6200640"/>
                  <a:ext cx="819360" cy="561600"/>
                  <a:chOff x="2548080" y="6200640"/>
                  <a:chExt cx="819360" cy="56160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>
                    <a:off x="2582640" y="6223320"/>
                    <a:ext cx="749880" cy="515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0,6152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2548080" y="6200640"/>
                    <a:ext cx="819360" cy="561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2" name=""/>
              <p:cNvGrpSpPr/>
              <p:nvPr/>
            </p:nvGrpSpPr>
            <p:grpSpPr>
              <a:xfrm>
                <a:off x="3368160" y="6200640"/>
                <a:ext cx="756000" cy="653040"/>
                <a:chOff x="3368160" y="6200640"/>
                <a:chExt cx="756000" cy="65304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3368160" y="6200640"/>
                  <a:ext cx="756000" cy="65304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4" name=""/>
                <p:cNvGrpSpPr/>
                <p:nvPr/>
              </p:nvGrpSpPr>
              <p:grpSpPr>
                <a:xfrm>
                  <a:off x="3368160" y="6200640"/>
                  <a:ext cx="755640" cy="561600"/>
                  <a:chOff x="3368160" y="6200640"/>
                  <a:chExt cx="755640" cy="56160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>
                    <a:off x="3403080" y="6223320"/>
                    <a:ext cx="685800" cy="515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3368160" y="6200640"/>
                    <a:ext cx="755640" cy="561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7" name=""/>
              <p:cNvGrpSpPr/>
              <p:nvPr/>
            </p:nvGrpSpPr>
            <p:grpSpPr>
              <a:xfrm>
                <a:off x="4124880" y="6200640"/>
                <a:ext cx="798480" cy="653040"/>
                <a:chOff x="4124880" y="6200640"/>
                <a:chExt cx="798480" cy="65304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4124880" y="6200640"/>
                  <a:ext cx="798480" cy="65304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9" name=""/>
                <p:cNvGrpSpPr/>
                <p:nvPr/>
              </p:nvGrpSpPr>
              <p:grpSpPr>
                <a:xfrm>
                  <a:off x="4124880" y="6200640"/>
                  <a:ext cx="798120" cy="561600"/>
                  <a:chOff x="4124880" y="6200640"/>
                  <a:chExt cx="798120" cy="561600"/>
                </a:xfrm>
              </p:grpSpPr>
              <p:sp>
                <p:nvSpPr>
                  <p:cNvPr id="560" name=""/>
                  <p:cNvSpPr/>
                  <p:nvPr/>
                </p:nvSpPr>
                <p:spPr>
                  <a:xfrm>
                    <a:off x="4159440" y="6223320"/>
                    <a:ext cx="728640" cy="515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1,88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4124880" y="6200640"/>
                    <a:ext cx="798120" cy="561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2" name=""/>
              <p:cNvGrpSpPr/>
              <p:nvPr/>
            </p:nvGrpSpPr>
            <p:grpSpPr>
              <a:xfrm>
                <a:off x="4923720" y="6200640"/>
                <a:ext cx="872640" cy="653040"/>
                <a:chOff x="4923720" y="6200640"/>
                <a:chExt cx="872640" cy="65304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4923720" y="6200640"/>
                  <a:ext cx="872640" cy="65304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4" name=""/>
                <p:cNvGrpSpPr/>
                <p:nvPr/>
              </p:nvGrpSpPr>
              <p:grpSpPr>
                <a:xfrm>
                  <a:off x="4923720" y="6200640"/>
                  <a:ext cx="872280" cy="561600"/>
                  <a:chOff x="4923720" y="6200640"/>
                  <a:chExt cx="872280" cy="56160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>
                    <a:off x="4958640" y="6223320"/>
                    <a:ext cx="802440" cy="515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11,86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4923720" y="6200640"/>
                    <a:ext cx="872280" cy="561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7" name=""/>
              <p:cNvGrpSpPr/>
              <p:nvPr/>
            </p:nvGrpSpPr>
            <p:grpSpPr>
              <a:xfrm>
                <a:off x="5796720" y="6200640"/>
                <a:ext cx="753840" cy="653040"/>
                <a:chOff x="5796720" y="6200640"/>
                <a:chExt cx="753840" cy="65304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5796720" y="6200640"/>
                  <a:ext cx="753840" cy="65304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9" name=""/>
                <p:cNvGrpSpPr/>
                <p:nvPr/>
              </p:nvGrpSpPr>
              <p:grpSpPr>
                <a:xfrm>
                  <a:off x="5796720" y="6200640"/>
                  <a:ext cx="753480" cy="561600"/>
                  <a:chOff x="5796720" y="6200640"/>
                  <a:chExt cx="753480" cy="56160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>
                    <a:off x="5831640" y="6223320"/>
                    <a:ext cx="683640" cy="515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29,46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5796720" y="6200640"/>
                    <a:ext cx="753480" cy="561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2" name=""/>
              <p:cNvGrpSpPr/>
              <p:nvPr/>
            </p:nvGrpSpPr>
            <p:grpSpPr>
              <a:xfrm>
                <a:off x="6551280" y="6200640"/>
                <a:ext cx="752040" cy="653040"/>
                <a:chOff x="6551280" y="6200640"/>
                <a:chExt cx="752040" cy="65304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6551280" y="6200640"/>
                  <a:ext cx="752040" cy="65304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4" name=""/>
                <p:cNvGrpSpPr/>
                <p:nvPr/>
              </p:nvGrpSpPr>
              <p:grpSpPr>
                <a:xfrm>
                  <a:off x="6551280" y="6200640"/>
                  <a:ext cx="751680" cy="561600"/>
                  <a:chOff x="6551280" y="6200640"/>
                  <a:chExt cx="751680" cy="56160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>
                    <a:off x="6586200" y="6223320"/>
                    <a:ext cx="681120" cy="515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84,01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6551280" y="6200640"/>
                    <a:ext cx="751680" cy="561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7" name=""/>
              <p:cNvGrpSpPr/>
              <p:nvPr/>
            </p:nvGrpSpPr>
            <p:grpSpPr>
              <a:xfrm>
                <a:off x="7304040" y="6200640"/>
                <a:ext cx="835560" cy="653040"/>
                <a:chOff x="7304040" y="6200640"/>
                <a:chExt cx="835560" cy="65304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7304040" y="6200640"/>
                  <a:ext cx="835560" cy="65304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9" name=""/>
                <p:cNvGrpSpPr/>
                <p:nvPr/>
              </p:nvGrpSpPr>
              <p:grpSpPr>
                <a:xfrm>
                  <a:off x="7304040" y="6200640"/>
                  <a:ext cx="835200" cy="561600"/>
                  <a:chOff x="7304040" y="6200640"/>
                  <a:chExt cx="835200" cy="561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>
                    <a:off x="7338600" y="6223320"/>
                    <a:ext cx="765720" cy="515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164,79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7304040" y="6200640"/>
                    <a:ext cx="835200" cy="561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2" name=""/>
              <p:cNvGrpSpPr/>
              <p:nvPr/>
            </p:nvGrpSpPr>
            <p:grpSpPr>
              <a:xfrm>
                <a:off x="8139960" y="6200640"/>
                <a:ext cx="996840" cy="653040"/>
                <a:chOff x="8139960" y="6200640"/>
                <a:chExt cx="996840" cy="65304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8139960" y="6200640"/>
                  <a:ext cx="996840" cy="65304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4" name=""/>
                <p:cNvGrpSpPr/>
                <p:nvPr/>
              </p:nvGrpSpPr>
              <p:grpSpPr>
                <a:xfrm>
                  <a:off x="8139960" y="6200640"/>
                  <a:ext cx="996480" cy="561600"/>
                  <a:chOff x="8139960" y="6200640"/>
                  <a:chExt cx="996480" cy="56160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>
                    <a:off x="8174520" y="6223320"/>
                    <a:ext cx="927000" cy="515880"/>
                  </a:xfrm>
                  <a:prstGeom prst="rect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248,54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8139960" y="6200640"/>
                    <a:ext cx="996480" cy="561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87" name=""/>
            <p:cNvSpPr/>
            <p:nvPr/>
          </p:nvSpPr>
          <p:spPr>
            <a:xfrm>
              <a:off x="304920" y="609480"/>
              <a:ext cx="8838720" cy="6248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457200" y="228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80880" y="14436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lanety – wybrane d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mikołajkopernik" descr=""/>
          <p:cNvPicPr/>
          <p:nvPr/>
        </p:nvPicPr>
        <p:blipFill>
          <a:blip r:embed="rId1"/>
          <a:stretch/>
        </p:blipFill>
        <p:spPr>
          <a:xfrm>
            <a:off x="60948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486400" y="11430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Autor heliocentrycznej teorii Układu Słoneczne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646-56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705720" cy="5305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3049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imes New Roman"/>
              </a:rPr>
              <a:t>Słońce – gwiazda naszego układ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47082-3554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2849760" cy="5105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057400" y="3049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Times New Roman"/>
              </a:rPr>
              <a:t>Merku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0574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jęcie planety Merku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konane 29III1974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 odległości 5380 tyś.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100819-7307" descr=""/>
          <p:cNvPicPr/>
          <p:nvPr/>
        </p:nvPicPr>
        <p:blipFill>
          <a:blip r:embed="rId1"/>
          <a:stretch/>
        </p:blipFill>
        <p:spPr>
          <a:xfrm>
            <a:off x="1828800" y="1886040"/>
            <a:ext cx="5486400" cy="3085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752480" y="45720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Times New Roman"/>
              </a:rPr>
              <a:t>Wen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56386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łynna powierzchnia Wenus – zdjęcie z 1990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110058-7514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486400" cy="3504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600200" y="38088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imes New Roman"/>
              </a:rPr>
              <a:t>Wenus nad horyzontem Ziem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1600" y="533412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a Słońcem i Księżycem Wenus jest najjaśniejszy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biektem widocznym na niebie, jako jasna gwiaz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 zmierzchu lub świc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67684-5069" descr=""/>
          <p:cNvPicPr/>
          <p:nvPr/>
        </p:nvPicPr>
        <p:blipFill>
          <a:blip r:embed="rId1"/>
          <a:stretch/>
        </p:blipFill>
        <p:spPr>
          <a:xfrm>
            <a:off x="2133720" y="1146240"/>
            <a:ext cx="5638680" cy="55753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600200" y="3808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imes New Roman"/>
              </a:rPr>
              <a:t>Ziem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101047-7311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4724280" cy="4724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28800" y="3808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Times New Roman"/>
              </a:rPr>
              <a:t>Ma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6248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jęcie planety ze statku kosmicznego Vi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08:27:32Z</dcterms:created>
  <dc:creator>Administrator</dc:creator>
  <dc:description/>
  <dc:language>en-US</dc:language>
  <cp:lastModifiedBy>Administrator</cp:lastModifiedBy>
  <dcterms:modified xsi:type="dcterms:W3CDTF">2002-02-15T11:22:44Z</dcterms:modified>
  <cp:revision>5</cp:revision>
  <dc:subject/>
  <dc:title>Układ  Słoneczny</dc:title>
</cp:coreProperties>
</file>